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dt" idx="4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ftr" idx="5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 type="sldNum" idx="5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B3C4-CF99-4F94-BD5C-78DA9A3F3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376A-6154-4B08-8BB4-8522E420E6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7A5A-633C-4F60-B16E-DBB1EA4F85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7EBF-60D5-4FE0-A516-A6C7939C97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8BCA-986F-4728-8C1B-D192ACB399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A15-C278-4901-BB6A-79ECCBA0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08A-4070-4E7A-A466-FFA9FE3C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67BF9-5A2B-4C1E-B7B2-60A7B6B3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1AA68-B5F5-446F-B40A-6DBEEF39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4C2F2-67AB-4CB8-B083-20AB2907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9AF4F-2C43-4E40-80FF-401D7990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8F620-8581-4AF5-9507-E1785349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7BEC8-5CE8-40B8-991B-D977D501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82E56-F4E2-43E7-80D0-86179DF5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32514-51EF-45C0-BE5D-64760661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14E68-504D-488B-8943-D6B865FF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FF1DA-679A-4B1A-A654-B395B8A1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00F-2489-42DD-B656-E50AB768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E90AB-0C89-4CAC-9344-333E584F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6AB63-5246-4C66-B8C0-5D0651AA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66623-E8CA-4B35-90A0-D9C02F9E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0B942-8FCD-4E6D-A9D5-7E361CBD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1045B-12FC-4BD2-88E9-091307E7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817ED-B275-4F68-9F99-85C6355D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CF275-B289-403F-85DF-57AC7CA6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D8BC9-C6F9-4A36-B581-B50F3E38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2ACD5-1869-454B-929E-DFDE36ED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C26DA-4E58-406F-B76E-F49C6E38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ACB9-6767-4622-BEFE-67301B74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6AF1C-0CA2-4B8A-A797-C08C4D56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46A24-0260-4C32-957D-77814035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A8763-2FA5-46AB-8801-C812C1B6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E8596-CBB4-4FAB-9F72-2F08DA77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532F6-0325-48B9-9754-0B6742A7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62C6D-A983-408C-AC69-C141B79E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1F8FD-8907-4F33-A36E-541403C0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A6E98-BB7D-4310-8BD2-C518E164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7D4A5-82B0-45A9-ACE8-7899A803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C31D6-F56A-435B-921E-7F85E83B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D04B-0352-496E-8EB0-72F99CEF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6A75C-3F49-4267-8335-6D9C414B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A2383-514D-434D-B2BB-1C86FE1A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1FECB-FCBF-4C26-907D-F389EED5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8A76E-D2E7-45F6-9BA9-22C078F2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5615E-41E2-4E55-8C75-1E201385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71F3C-2484-4950-B69C-AEDC96BC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80CF3-89D2-4391-AC55-574ED6FA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60153-80C5-4A83-826D-07F02A58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4BA7A-B1D9-417A-BEA0-D42C6BAB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CC353-CCFB-49AE-9EF1-83821901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4603-872F-4FF3-962C-BE5242BC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3A4CB-BB47-48C7-ADF4-C5300437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6674F-9458-4773-A185-C2A2091D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957D7-2482-49CD-94DA-AD02A343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274A9-62BE-479D-91E5-713B99E2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D2F5A-798A-4B4F-B722-2905F297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15657-4EE3-4257-88ED-B402324B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72946-28BC-4A7B-9E2B-33B308F4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B7989-113B-4AC5-A7AB-7A739F97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3DE5E-55B2-46A6-8AE9-E1CF08EE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693BC-F69B-4F06-A673-51B1342D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CFF5-D3B0-4A51-9DFD-BC0CA827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2E92E-EB38-44AD-A3B6-25D3CF32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D0A0D-FFF3-4AD3-82C8-75E598EB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EFF4BE-1372-43E4-985C-B0AFF14B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39A4D-C0FB-42F6-90D6-3654C9E6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04319-B749-4ECD-80C2-02D4EEE6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24BC4C-6590-4529-BBD0-8EB44AA0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DC527-6E8A-489A-ADE0-B11A907D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EBC88-1810-443F-847A-0D9B7B27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F52FA-E138-4E2F-8096-055EEE89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2C764-74E4-4DD4-A30D-B17D9723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56B2-69EE-4D73-BB4B-066DFF6B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81CE0-AAA7-46B7-B0A9-6A36BE4F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1AC187-54EC-4302-9327-78BCE7C7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FF8FFB-91EA-4C06-8BAB-3173876F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B9216-D2DC-4628-BD1A-0E971631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629CA4-6B73-444A-9BA4-F01C30E1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80F72-8719-4F2F-8039-230A864F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E45F2-B078-4E2B-9BDC-D0987EF7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8A9B65-1513-465F-B0DD-D8ACE7A9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781D5-CAC5-4CC2-984A-A513C000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93EA93-3B1B-4923-9D5A-80D2A234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20A5-AEFC-4B32-A900-90D8DCE2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8FEB22-1261-452D-A245-E8889420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1E9C01-AF99-4E64-868C-C5B21EE4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55C5EA-4B8C-48F0-90F0-1D2AF28F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DCBFB5-A63B-41C4-A096-47A79A24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426B7-E92A-44DF-9188-32A6D098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434379-7E0D-4F78-BB69-557564E8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24DAA-9FEB-4FBB-A495-6ADB4D4B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8318FB-1CA8-4EC7-8B83-BFA3ABE6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1AEB06-6B7D-40BB-94E5-E021A4C4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F0930-DBE2-4C6B-AFC4-7245675D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ACFF-F6A6-4F67-A40C-B57B1EAA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CBAD98-C782-4186-8E06-3F69EDD9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1B8F6F-2188-487E-883B-549DBD77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6706FB-5FC5-4B65-9351-153AE3EB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C6337-DE95-466F-B5D4-C328105B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082AD4-E74B-4F89-80A0-74EFD3F7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A58D2B-8A83-49F1-B70C-07455A11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CA904-96D9-43D6-8833-631012D9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FC001A-4016-4C95-AE2B-E7596FDF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090DF7-F106-4C89-B0CD-719C00E4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6A6FF7-E192-4FFA-9568-9F2E48E4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43AF-77E3-4E6B-BDD6-5EA9B6E6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3CAE9-8279-43D4-9119-61148AEA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6884D-AD3D-454E-8C82-4C14E0DD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1051F-C6AC-4E76-BE8E-AC825217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5FA-8DD0-4797-B688-785844F3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930B-3ADF-4B8D-88F5-CC9F193B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8988-120D-49E7-8CF2-0FC70420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C306-F5FD-4EB2-AD63-0676F4D6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92AD-CB0A-4253-B450-3C8D3C55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8CA8-CCEA-4CE9-90C1-06091D73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F3AC2-F974-4DAA-B83C-BE42514A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3346-0793-4751-86C4-8DBCD68E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FAC7-3D81-457F-802E-98B9BABD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B64A-F42D-45D7-BE44-D6FAAC36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99676-3093-428D-A798-665FDFA0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7B0B-3523-4144-AC96-3BF85A68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364C4-44AB-4849-A5DF-EE219360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46AE7-08B1-4C1D-BB1F-4DD5FBA0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EB080-DF00-43EF-BCC5-0E47FED0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4BBEA-8113-41DD-AE73-3F0339DB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31388-AAE0-46A5-BB96-45C0B5C7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A071F-4581-491F-9CD4-BDC10D6C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C9CF1-E46B-44EC-8F35-BF8DE748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DEADC-3983-4D81-B260-E8185E1B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E9C3C-3727-415E-BA66-8A87B5DD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61AB1-8D9D-4F6B-BA98-AE7C37A6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1C1-C0EE-42DE-9F47-156F2C8F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27781-8F90-4ED5-B7F2-28991AF3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D5E98-D878-4DA6-A16B-DA5BFAB2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38F52-6FE0-4B8D-A8C9-A6B6E9EB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2C1BA-18C9-4451-A0C8-7397407F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7D791-D650-4242-B8E1-3953CFDE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F943-71C7-4878-B2CA-2F0F9602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DF0E2-AE91-4ECB-A281-A4B04129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AC4DC-64C2-47FD-8012-635CBC16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41515-F35E-4835-877D-D1DD8F30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AC64E-273F-4C5E-B1B0-DE831723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F89-8007-4059-B792-348B35DA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B2008-F559-4B2A-9F00-0F71ED45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58B6D-047E-4788-95F0-755A9416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4DDA4-1A24-4350-BCD7-27DAF37B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F06CF-E796-4EEC-82FE-DD0567A4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046C6-0E25-4FF7-942C-4429810D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FF687-F631-4036-A7E7-F5A71ABC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D0A5B-FA13-4920-A208-F002AAF3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AB1B1-6D11-4717-9602-6450C6A4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944CA-858A-4CF0-A140-EF6DE5F4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45204-C371-4DB8-8500-BA9ABFEE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D3F-4A93-4E6E-A892-41020021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F8D85-3DA7-40E6-A721-76C03C16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8C73E-A7D9-49BC-8154-FBEAE095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3B73F-7D09-42DA-9667-5F177F95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9D15D-19FD-4EE1-8F03-E29EE5B4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4B0A1-8212-40BF-8ED2-EECB693B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F5F71-ACB6-443C-977C-0830184A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5EFFF-018A-446E-8A63-3DD527A5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EF140-1A76-4D48-BB05-41CB0AA1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9361C-6288-4BD6-93C3-A382AD31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DA0E4-C8DB-4F8A-AAB2-40B2F7FD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713-2332-4FEB-9CFA-0E7BE55E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41079-98B5-43D8-88B4-E182F76D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2F270-C511-4E96-BB4D-AA462CB8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07EFE-3FD4-4A5D-9C70-3BBA69BC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ED735-EF32-4087-B35B-1BD08618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A9F80-2C98-446C-83AC-CF2279F3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41959-D9DB-499F-836F-49DA3017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C470F-9D6A-412A-BEB6-36384C11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DA504-ADB7-49A3-8F27-34D513BA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6B5D3-43E1-4DAE-ABA1-908653DA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124AB-77FC-436A-B18C-29C48DBA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0153-1D3E-461F-B908-DE555E9C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EC4EB-0F0C-46C4-9675-43E48792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91581-A4B8-4670-A112-5D21A9A0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8298A-DBE1-4E59-BB4E-DFD67F91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EC72A-A2EA-45E7-A288-A0B856AE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0216B-D1DD-4A03-87A5-A42FAE02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8B8A5-E4CF-4201-BF1C-F779FBEA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A8966-05B9-4DB7-BA1C-0A072B20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DDC95-F059-43D0-B69A-7CBB438A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33C1D-1347-4724-A58F-D64828A7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96A05-F06B-4A07-ABC2-665B8494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1BD-4826-47AD-A34F-613E25CF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38011-FA31-4A01-9203-EEEABF5B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F8750-CC4B-4BDC-B7FB-5A3E37C9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F4977-0E61-4525-B770-32138854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B9CC3-8A5D-4C0E-BDC5-F1002CC3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29E90-A421-425B-BF61-48C94AA7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07B4F-F82C-49A3-9C7E-B4B36F8C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21C8A-8366-40CE-925D-597C4D56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7E96D-2F3B-4AFD-AC7E-8A731776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89563-0EFC-4373-A493-D8175D80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02319-1EEA-41F0-A1FC-D641B769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8235-A159-45A2-83D2-AD9204C452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직사각형 8"/>
          <p:cNvSpPr/>
          <p:nvPr/>
        </p:nvSpPr>
        <p:spPr>
          <a:xfrm rot="21422400">
            <a:off x="609120" y="1000080"/>
            <a:ext cx="4000680" cy="4857840"/>
          </a:xfrm>
          <a:prstGeom prst="rect">
            <a:avLst/>
          </a:prstGeom>
          <a:solidFill>
            <a:srgbClr val="f8f8f8"/>
          </a:solidFill>
          <a:ln cap="sq" w="3240">
            <a:solidFill>
              <a:srgbClr val="c0c0c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그룹 9"/>
          <p:cNvGrpSpPr/>
          <p:nvPr/>
        </p:nvGrpSpPr>
        <p:grpSpPr>
          <a:xfrm>
            <a:off x="8116920" y="46080"/>
            <a:ext cx="1000080" cy="1036440"/>
            <a:chOff x="8116920" y="46080"/>
            <a:chExt cx="1000080" cy="1036440"/>
          </a:xfrm>
        </p:grpSpPr>
        <p:sp>
          <p:nvSpPr>
            <p:cNvPr id="446" name="자유형 10"/>
            <p:cNvSpPr/>
            <p:nvPr/>
          </p:nvSpPr>
          <p:spPr>
            <a:xfrm>
              <a:off x="8386560" y="460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자유형 11"/>
            <p:cNvSpPr/>
            <p:nvPr/>
          </p:nvSpPr>
          <p:spPr>
            <a:xfrm>
              <a:off x="8116920" y="5936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자유형 12"/>
            <p:cNvSpPr/>
            <p:nvPr/>
          </p:nvSpPr>
          <p:spPr>
            <a:xfrm>
              <a:off x="8119800" y="460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자유형 13"/>
            <p:cNvSpPr/>
            <p:nvPr/>
          </p:nvSpPr>
          <p:spPr>
            <a:xfrm>
              <a:off x="8869320" y="8334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자유형 14"/>
            <p:cNvSpPr/>
            <p:nvPr/>
          </p:nvSpPr>
          <p:spPr>
            <a:xfrm>
              <a:off x="8389800" y="3157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01BC-4725-4DA1-A362-7572F62602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그룹 8"/>
          <p:cNvGrpSpPr/>
          <p:nvPr/>
        </p:nvGrpSpPr>
        <p:grpSpPr>
          <a:xfrm>
            <a:off x="61920" y="50760"/>
            <a:ext cx="1000080" cy="1036800"/>
            <a:chOff x="61920" y="50760"/>
            <a:chExt cx="1000080" cy="1036800"/>
          </a:xfrm>
        </p:grpSpPr>
        <p:sp>
          <p:nvSpPr>
            <p:cNvPr id="494" name="자유형 9"/>
            <p:cNvSpPr/>
            <p:nvPr/>
          </p:nvSpPr>
          <p:spPr>
            <a:xfrm>
              <a:off x="331560" y="5076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자유형 10"/>
            <p:cNvSpPr/>
            <p:nvPr/>
          </p:nvSpPr>
          <p:spPr>
            <a:xfrm>
              <a:off x="61920" y="5986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자유형 11"/>
            <p:cNvSpPr/>
            <p:nvPr/>
          </p:nvSpPr>
          <p:spPr>
            <a:xfrm>
              <a:off x="64800" y="5076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자유형 12"/>
            <p:cNvSpPr/>
            <p:nvPr/>
          </p:nvSpPr>
          <p:spPr>
            <a:xfrm>
              <a:off x="814320" y="8384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자유형 13"/>
            <p:cNvSpPr/>
            <p:nvPr/>
          </p:nvSpPr>
          <p:spPr>
            <a:xfrm>
              <a:off x="334800" y="32076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C57D-17F9-4B07-974B-6C15C7978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542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73B0-582A-43B5-B288-3B2DF7D376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3F6E-1730-47FA-B0F9-71CE50E82B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DED3-7203-4E71-997E-A3BBF83FF0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ED48-FB0B-4541-8E8D-B477D3431C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AE86-52BF-4BEB-990E-9170E13324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그룹 8"/>
          <p:cNvGrpSpPr/>
          <p:nvPr/>
        </p:nvGrpSpPr>
        <p:grpSpPr>
          <a:xfrm>
            <a:off x="0" y="4933800"/>
            <a:ext cx="9144000" cy="1928880"/>
            <a:chOff x="0" y="4933800"/>
            <a:chExt cx="9144000" cy="1928880"/>
          </a:xfrm>
        </p:grpSpPr>
        <p:sp>
          <p:nvSpPr>
            <p:cNvPr id="44" name="자유형 9"/>
            <p:cNvSpPr/>
            <p:nvPr/>
          </p:nvSpPr>
          <p:spPr>
            <a:xfrm>
              <a:off x="0" y="493380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자유형 10"/>
            <p:cNvSpPr/>
            <p:nvPr/>
          </p:nvSpPr>
          <p:spPr>
            <a:xfrm>
              <a:off x="0" y="536220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" name="그룹 11"/>
          <p:cNvGrpSpPr/>
          <p:nvPr/>
        </p:nvGrpSpPr>
        <p:grpSpPr>
          <a:xfrm>
            <a:off x="71280" y="87480"/>
            <a:ext cx="1000440" cy="1036440"/>
            <a:chOff x="71280" y="87480"/>
            <a:chExt cx="1000440" cy="1036440"/>
          </a:xfrm>
        </p:grpSpPr>
        <p:sp>
          <p:nvSpPr>
            <p:cNvPr id="47" name="자유형 12"/>
            <p:cNvSpPr/>
            <p:nvPr/>
          </p:nvSpPr>
          <p:spPr>
            <a:xfrm>
              <a:off x="341280" y="874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자유형 13"/>
            <p:cNvSpPr/>
            <p:nvPr/>
          </p:nvSpPr>
          <p:spPr>
            <a:xfrm>
              <a:off x="71280" y="6350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자유형 14"/>
            <p:cNvSpPr/>
            <p:nvPr/>
          </p:nvSpPr>
          <p:spPr>
            <a:xfrm>
              <a:off x="74160" y="874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자유형 15"/>
            <p:cNvSpPr/>
            <p:nvPr/>
          </p:nvSpPr>
          <p:spPr>
            <a:xfrm>
              <a:off x="824040" y="8748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자유형 16"/>
            <p:cNvSpPr/>
            <p:nvPr/>
          </p:nvSpPr>
          <p:spPr>
            <a:xfrm>
              <a:off x="344160" y="3571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B739-F66A-4A7E-B9F2-A2E2863FF3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그룹 8"/>
          <p:cNvGrpSpPr/>
          <p:nvPr/>
        </p:nvGrpSpPr>
        <p:grpSpPr>
          <a:xfrm>
            <a:off x="0" y="4933800"/>
            <a:ext cx="9144000" cy="1928880"/>
            <a:chOff x="0" y="4933800"/>
            <a:chExt cx="9144000" cy="1928880"/>
          </a:xfrm>
        </p:grpSpPr>
        <p:sp>
          <p:nvSpPr>
            <p:cNvPr id="95" name="자유형 9"/>
            <p:cNvSpPr/>
            <p:nvPr/>
          </p:nvSpPr>
          <p:spPr>
            <a:xfrm>
              <a:off x="0" y="493380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자유형 10"/>
            <p:cNvSpPr/>
            <p:nvPr/>
          </p:nvSpPr>
          <p:spPr>
            <a:xfrm>
              <a:off x="0" y="536220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그룹 11"/>
          <p:cNvGrpSpPr/>
          <p:nvPr/>
        </p:nvGrpSpPr>
        <p:grpSpPr>
          <a:xfrm>
            <a:off x="71280" y="106200"/>
            <a:ext cx="1000440" cy="1036800"/>
            <a:chOff x="71280" y="106200"/>
            <a:chExt cx="1000440" cy="1036800"/>
          </a:xfrm>
        </p:grpSpPr>
        <p:sp>
          <p:nvSpPr>
            <p:cNvPr id="98" name="자유형 12"/>
            <p:cNvSpPr/>
            <p:nvPr/>
          </p:nvSpPr>
          <p:spPr>
            <a:xfrm>
              <a:off x="341280" y="1062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자유형 13"/>
            <p:cNvSpPr/>
            <p:nvPr/>
          </p:nvSpPr>
          <p:spPr>
            <a:xfrm>
              <a:off x="71280" y="65412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자유형 14"/>
            <p:cNvSpPr/>
            <p:nvPr/>
          </p:nvSpPr>
          <p:spPr>
            <a:xfrm>
              <a:off x="74160" y="10620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자유형 15"/>
            <p:cNvSpPr/>
            <p:nvPr/>
          </p:nvSpPr>
          <p:spPr>
            <a:xfrm>
              <a:off x="824040" y="8938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자유형 16"/>
            <p:cNvSpPr/>
            <p:nvPr/>
          </p:nvSpPr>
          <p:spPr>
            <a:xfrm>
              <a:off x="344160" y="37620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C4EA-E92F-482D-A1B2-B1DBD356A8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146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그룹 11"/>
          <p:cNvGrpSpPr/>
          <p:nvPr/>
        </p:nvGrpSpPr>
        <p:grpSpPr>
          <a:xfrm>
            <a:off x="142920" y="1857240"/>
            <a:ext cx="1000080" cy="1036800"/>
            <a:chOff x="142920" y="1857240"/>
            <a:chExt cx="1000080" cy="1036800"/>
          </a:xfrm>
        </p:grpSpPr>
        <p:sp>
          <p:nvSpPr>
            <p:cNvPr id="149" name="자유형 12"/>
            <p:cNvSpPr/>
            <p:nvPr/>
          </p:nvSpPr>
          <p:spPr>
            <a:xfrm>
              <a:off x="412560" y="18572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자유형 13"/>
            <p:cNvSpPr/>
            <p:nvPr/>
          </p:nvSpPr>
          <p:spPr>
            <a:xfrm>
              <a:off x="142920" y="240516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자유형 14"/>
            <p:cNvSpPr/>
            <p:nvPr/>
          </p:nvSpPr>
          <p:spPr>
            <a:xfrm>
              <a:off x="145800" y="185724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자유형 15"/>
            <p:cNvSpPr/>
            <p:nvPr/>
          </p:nvSpPr>
          <p:spPr>
            <a:xfrm>
              <a:off x="895320" y="264492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자유형 16"/>
            <p:cNvSpPr/>
            <p:nvPr/>
          </p:nvSpPr>
          <p:spPr>
            <a:xfrm>
              <a:off x="415800" y="212724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75BB-0C91-4AE9-823F-0FE14E778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그룹 8"/>
          <p:cNvGrpSpPr/>
          <p:nvPr/>
        </p:nvGrpSpPr>
        <p:grpSpPr>
          <a:xfrm>
            <a:off x="71280" y="87480"/>
            <a:ext cx="1000440" cy="1036440"/>
            <a:chOff x="71280" y="87480"/>
            <a:chExt cx="1000440" cy="1036440"/>
          </a:xfrm>
        </p:grpSpPr>
        <p:sp>
          <p:nvSpPr>
            <p:cNvPr id="197" name="자유형 9"/>
            <p:cNvSpPr/>
            <p:nvPr/>
          </p:nvSpPr>
          <p:spPr>
            <a:xfrm>
              <a:off x="341280" y="874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자유형 10"/>
            <p:cNvSpPr/>
            <p:nvPr/>
          </p:nvSpPr>
          <p:spPr>
            <a:xfrm>
              <a:off x="71280" y="6350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자유형 11"/>
            <p:cNvSpPr/>
            <p:nvPr/>
          </p:nvSpPr>
          <p:spPr>
            <a:xfrm>
              <a:off x="74160" y="874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자유형 12"/>
            <p:cNvSpPr/>
            <p:nvPr/>
          </p:nvSpPr>
          <p:spPr>
            <a:xfrm>
              <a:off x="824040" y="8748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자유형 13"/>
            <p:cNvSpPr/>
            <p:nvPr/>
          </p:nvSpPr>
          <p:spPr>
            <a:xfrm>
              <a:off x="344160" y="3571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그룹 14"/>
          <p:cNvGrpSpPr/>
          <p:nvPr/>
        </p:nvGrpSpPr>
        <p:grpSpPr>
          <a:xfrm>
            <a:off x="0" y="4933800"/>
            <a:ext cx="9144000" cy="1928880"/>
            <a:chOff x="0" y="4933800"/>
            <a:chExt cx="9144000" cy="1928880"/>
          </a:xfrm>
        </p:grpSpPr>
        <p:sp>
          <p:nvSpPr>
            <p:cNvPr id="203" name="자유형 15"/>
            <p:cNvSpPr/>
            <p:nvPr/>
          </p:nvSpPr>
          <p:spPr>
            <a:xfrm>
              <a:off x="0" y="4933800"/>
              <a:ext cx="9144000" cy="1928880"/>
            </a:xfrm>
            <a:prstGeom prst="pie">
              <a:avLst/>
            </a:pr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자유형 16"/>
            <p:cNvSpPr/>
            <p:nvPr/>
          </p:nvSpPr>
          <p:spPr>
            <a:xfrm>
              <a:off x="0" y="536220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D844-DD80-4D9E-BCAE-EF4A14D4C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그룹 8"/>
          <p:cNvGrpSpPr/>
          <p:nvPr/>
        </p:nvGrpSpPr>
        <p:grpSpPr>
          <a:xfrm>
            <a:off x="71280" y="71280"/>
            <a:ext cx="1000440" cy="1036800"/>
            <a:chOff x="71280" y="71280"/>
            <a:chExt cx="1000440" cy="1036800"/>
          </a:xfrm>
        </p:grpSpPr>
        <p:sp>
          <p:nvSpPr>
            <p:cNvPr id="248" name="자유형 9"/>
            <p:cNvSpPr/>
            <p:nvPr/>
          </p:nvSpPr>
          <p:spPr>
            <a:xfrm>
              <a:off x="341280" y="71280"/>
              <a:ext cx="247680" cy="2491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자유형 10"/>
            <p:cNvSpPr/>
            <p:nvPr/>
          </p:nvSpPr>
          <p:spPr>
            <a:xfrm>
              <a:off x="71280" y="619200"/>
              <a:ext cx="247680" cy="2491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자유형 11"/>
            <p:cNvSpPr/>
            <p:nvPr/>
          </p:nvSpPr>
          <p:spPr>
            <a:xfrm>
              <a:off x="74160" y="71280"/>
              <a:ext cx="247680" cy="2491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자유형 12"/>
            <p:cNvSpPr/>
            <p:nvPr/>
          </p:nvSpPr>
          <p:spPr>
            <a:xfrm>
              <a:off x="824040" y="858960"/>
              <a:ext cx="247680" cy="2491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자유형 13"/>
            <p:cNvSpPr/>
            <p:nvPr/>
          </p:nvSpPr>
          <p:spPr>
            <a:xfrm>
              <a:off x="344160" y="341280"/>
              <a:ext cx="479520" cy="5176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FE7C-4DB7-4FD4-8C3D-21BCFB64D2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296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그룹 11"/>
          <p:cNvGrpSpPr/>
          <p:nvPr/>
        </p:nvGrpSpPr>
        <p:grpSpPr>
          <a:xfrm>
            <a:off x="71280" y="106200"/>
            <a:ext cx="1000440" cy="1036800"/>
            <a:chOff x="71280" y="106200"/>
            <a:chExt cx="1000440" cy="1036800"/>
          </a:xfrm>
        </p:grpSpPr>
        <p:sp>
          <p:nvSpPr>
            <p:cNvPr id="299" name="자유형 12"/>
            <p:cNvSpPr/>
            <p:nvPr/>
          </p:nvSpPr>
          <p:spPr>
            <a:xfrm>
              <a:off x="341280" y="1062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자유형 13"/>
            <p:cNvSpPr/>
            <p:nvPr/>
          </p:nvSpPr>
          <p:spPr>
            <a:xfrm>
              <a:off x="71280" y="65412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자유형 14"/>
            <p:cNvSpPr/>
            <p:nvPr/>
          </p:nvSpPr>
          <p:spPr>
            <a:xfrm>
              <a:off x="74160" y="10620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자유형 15"/>
            <p:cNvSpPr/>
            <p:nvPr/>
          </p:nvSpPr>
          <p:spPr>
            <a:xfrm>
              <a:off x="824040" y="8938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자유형 16"/>
            <p:cNvSpPr/>
            <p:nvPr/>
          </p:nvSpPr>
          <p:spPr>
            <a:xfrm>
              <a:off x="344160" y="37620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7286-424D-4E60-8C43-66C9B307A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347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그룹 11"/>
          <p:cNvGrpSpPr/>
          <p:nvPr/>
        </p:nvGrpSpPr>
        <p:grpSpPr>
          <a:xfrm>
            <a:off x="71280" y="87480"/>
            <a:ext cx="1000440" cy="1036440"/>
            <a:chOff x="71280" y="87480"/>
            <a:chExt cx="1000440" cy="1036440"/>
          </a:xfrm>
        </p:grpSpPr>
        <p:sp>
          <p:nvSpPr>
            <p:cNvPr id="350" name="자유형 12"/>
            <p:cNvSpPr/>
            <p:nvPr/>
          </p:nvSpPr>
          <p:spPr>
            <a:xfrm>
              <a:off x="341280" y="874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자유형 13"/>
            <p:cNvSpPr/>
            <p:nvPr/>
          </p:nvSpPr>
          <p:spPr>
            <a:xfrm>
              <a:off x="71280" y="6350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자유형 14"/>
            <p:cNvSpPr/>
            <p:nvPr/>
          </p:nvSpPr>
          <p:spPr>
            <a:xfrm>
              <a:off x="74160" y="874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자유형 15"/>
            <p:cNvSpPr/>
            <p:nvPr/>
          </p:nvSpPr>
          <p:spPr>
            <a:xfrm>
              <a:off x="824040" y="8748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자유형 16"/>
            <p:cNvSpPr/>
            <p:nvPr/>
          </p:nvSpPr>
          <p:spPr>
            <a:xfrm>
              <a:off x="344160" y="3571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61B2-EFA8-4756-A4BF-C7A9280DBE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자유형 8"/>
          <p:cNvSpPr/>
          <p:nvPr/>
        </p:nvSpPr>
        <p:spPr>
          <a:xfrm>
            <a:off x="341280" y="106200"/>
            <a:ext cx="247680" cy="249480"/>
          </a:xfrm>
          <a:prstGeom prst="pie">
            <a:avLst/>
          </a:prstGeom>
          <a:solidFill>
            <a:srgbClr val="3f949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자유형 9"/>
          <p:cNvSpPr/>
          <p:nvPr/>
        </p:nvSpPr>
        <p:spPr>
          <a:xfrm>
            <a:off x="71280" y="654120"/>
            <a:ext cx="247680" cy="249120"/>
          </a:xfrm>
          <a:prstGeom prst="pie">
            <a:avLst/>
          </a:prstGeom>
          <a:solidFill>
            <a:srgbClr val="3f949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자유형 10"/>
          <p:cNvSpPr/>
          <p:nvPr/>
        </p:nvSpPr>
        <p:spPr>
          <a:xfrm>
            <a:off x="74520" y="106200"/>
            <a:ext cx="247680" cy="249480"/>
          </a:xfrm>
          <a:prstGeom prst="pie">
            <a:avLst/>
          </a:prstGeom>
          <a:solidFill>
            <a:srgbClr val="3f949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자유형 11"/>
          <p:cNvSpPr/>
          <p:nvPr/>
        </p:nvSpPr>
        <p:spPr>
          <a:xfrm>
            <a:off x="824040" y="893880"/>
            <a:ext cx="247680" cy="249120"/>
          </a:xfrm>
          <a:prstGeom prst="pie">
            <a:avLst/>
          </a:prstGeom>
          <a:solidFill>
            <a:srgbClr val="3f949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자유형 12"/>
          <p:cNvSpPr/>
          <p:nvPr/>
        </p:nvSpPr>
        <p:spPr>
          <a:xfrm>
            <a:off x="344520" y="376200"/>
            <a:ext cx="479520" cy="517680"/>
          </a:xfrm>
          <a:prstGeom prst="pie">
            <a:avLst/>
          </a:prstGeom>
          <a:solidFill>
            <a:srgbClr val="3f949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6C82-8071-4FFA-B7BA-C67E2BD000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image" Target="../media/image2.png"/><Relationship Id="rId6" Type="http://schemas.openxmlformats.org/officeDocument/2006/relationships/hyperlink" Target="http://100.naver.com/100.nhn?type=image_list&amp;docid=130078&amp;dir_id=04030106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jpeg"/><Relationship Id="rId3" Type="http://schemas.openxmlformats.org/officeDocument/2006/relationships/slide" Target="slide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1357200" y="471492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1" action="ppaction://hlinksldjump"/>
              </a:rPr>
              <a:t>▶</a:t>
            </a: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2" action="ppaction://hlinksldjump"/>
              </a:rPr>
              <a:t>Traditional Clot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3" action="ppaction://hlinksldjump"/>
              </a:rPr>
              <a:t>▶</a:t>
            </a: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4" action="ppaction://hlinksldjump"/>
              </a:rPr>
              <a:t>Modern Clot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1" name="Rectangle 2" descr=""/>
          <p:cNvPicPr/>
          <p:nvPr/>
        </p:nvPicPr>
        <p:blipFill>
          <a:blip r:embed="rId5"/>
          <a:stretch/>
        </p:blipFill>
        <p:spPr>
          <a:xfrm>
            <a:off x="682560" y="-648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762" name="TextBox 5"/>
          <p:cNvSpPr/>
          <p:nvPr/>
        </p:nvSpPr>
        <p:spPr>
          <a:xfrm>
            <a:off x="6072120" y="6143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eonghun, E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5" descr="http://dicimg.naver.com/100/400/79/101779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86080" y="1143000"/>
            <a:ext cx="250020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 txBox="1"/>
          <p:nvPr/>
        </p:nvSpPr>
        <p:spPr>
          <a:xfrm>
            <a:off x="1142640" y="6143760"/>
            <a:ext cx="25002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HGP明朝E"/>
              </a:rPr>
              <a:t>がぃら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428800" y="6000840"/>
            <a:ext cx="25290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HGP明朝E"/>
              </a:rPr>
              <a:t>セーラーふ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Picture 1" descr="gakuran8"/>
          <p:cNvPicPr/>
          <p:nvPr/>
        </p:nvPicPr>
        <p:blipFill>
          <a:blip r:embed="rId2"/>
          <a:stretch/>
        </p:blipFill>
        <p:spPr>
          <a:xfrm>
            <a:off x="1643040" y="1571760"/>
            <a:ext cx="1368360" cy="44290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3" descr="Sailor_fuku_girls"/>
          <p:cNvPicPr/>
          <p:nvPr/>
        </p:nvPicPr>
        <p:blipFill>
          <a:blip r:embed="rId3"/>
          <a:stretch/>
        </p:blipFill>
        <p:spPr>
          <a:xfrm>
            <a:off x="4643280" y="2643120"/>
            <a:ext cx="37148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357120" y="2285640"/>
            <a:ext cx="80726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Ganguro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（がんぐろ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et fashion became popular among Japanese girls in the early 2000s, this style consists of bleached hair, a dark tan, fake eyelashes, black and white eyeliner, accessories and platform sho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0" name="제목 1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7785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2" descr="images"/>
          <p:cNvPicPr/>
          <p:nvPr/>
        </p:nvPicPr>
        <p:blipFill>
          <a:blip r:embed="rId2"/>
          <a:stretch/>
        </p:blipFill>
        <p:spPr>
          <a:xfrm>
            <a:off x="214200" y="3500280"/>
            <a:ext cx="4184640" cy="285768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3" descr="ganguro"/>
          <p:cNvPicPr/>
          <p:nvPr/>
        </p:nvPicPr>
        <p:blipFill>
          <a:blip r:embed="rId3"/>
          <a:stretch/>
        </p:blipFill>
        <p:spPr>
          <a:xfrm>
            <a:off x="4643280" y="1928880"/>
            <a:ext cx="42865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제목 2" descr=""/>
          <p:cNvPicPr/>
          <p:nvPr/>
        </p:nvPicPr>
        <p:blipFill>
          <a:blip r:embed="rId1"/>
          <a:stretch/>
        </p:blipFill>
        <p:spPr>
          <a:xfrm>
            <a:off x="420840" y="731880"/>
            <a:ext cx="8242200" cy="1457280"/>
          </a:xfrm>
          <a:prstGeom prst="rect">
            <a:avLst/>
          </a:prstGeom>
          <a:ln w="0">
            <a:noFill/>
          </a:ln>
        </p:spPr>
      </p:pic>
      <p:sp>
        <p:nvSpPr>
          <p:cNvPr id="795" name="TextBox 4"/>
          <p:cNvSpPr/>
          <p:nvPr/>
        </p:nvSpPr>
        <p:spPr>
          <a:xfrm>
            <a:off x="428760" y="350028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ゆかた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m_eN9tjMgZI&amp;NR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428760" y="450072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ese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uni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8fhgnofgg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0VWK3IQv3S4&amp;NR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Box 7"/>
          <p:cNvSpPr/>
          <p:nvPr/>
        </p:nvSpPr>
        <p:spPr>
          <a:xfrm>
            <a:off x="500040" y="564372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がんぐ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MjnCrz-fBF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Box 7"/>
          <p:cNvSpPr/>
          <p:nvPr/>
        </p:nvSpPr>
        <p:spPr>
          <a:xfrm>
            <a:off x="428760" y="25002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きもの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QsJgPVaNP3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685800" y="157176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The traditional forms of japanese clothing or japanese clothes in general is called wafuku(</a:t>
            </a:r>
            <a:r>
              <a:rPr b="0" lang="ko-KR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わふ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). Traditional japanese clothing can be broken down into the following clothing categories.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7c0808"/>
                </a:solidFill>
                <a:uFillTx/>
                <a:latin typeface="Verdana"/>
                <a:ea typeface="ヒラギノ角ゴ Pro W3"/>
                <a:hlinkClick r:id="rId1" action="ppaction://hlinksldjump"/>
              </a:rPr>
              <a:t>きも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7c0808"/>
                </a:solidFill>
                <a:uFillTx/>
                <a:latin typeface="Verdana"/>
                <a:ea typeface="ヒラギノ角ゴ Pro W3"/>
                <a:hlinkClick r:id="rId2" action="ppaction://hlinksldjump"/>
              </a:rPr>
              <a:t>ゆかた</a:t>
            </a: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ヒラギノ角ゴ Pro W3"/>
                <a:hlinkClick r:id="rId3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5" name="Rectangle 2" descr=""/>
          <p:cNvPicPr/>
          <p:nvPr/>
        </p:nvPicPr>
        <p:blipFill>
          <a:blip r:embed="rId4"/>
          <a:stretch/>
        </p:blipFill>
        <p:spPr>
          <a:xfrm>
            <a:off x="237960" y="603360"/>
            <a:ext cx="87408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Rectangle 2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599"/>
              </a:spcAft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meaning clothing or things to wear is the basic japanese clo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맑은 고딕"/>
              </a:rPr>
              <a:t>Today, most formal kimono are made of rayon, cotton sateen, cotton, polyester and other synthetic fibers except for the traditional wedding kimon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8" name="Picture 5" descr=""/>
          <p:cNvPicPr/>
          <p:nvPr/>
        </p:nvPicPr>
        <p:blipFill>
          <a:blip r:embed="rId2"/>
          <a:stretch/>
        </p:blipFill>
        <p:spPr>
          <a:xfrm>
            <a:off x="5143680" y="1928880"/>
            <a:ext cx="31431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Rectangle 2" descr=""/>
          <p:cNvPicPr/>
          <p:nvPr/>
        </p:nvPicPr>
        <p:blipFill>
          <a:blip r:embed="rId1"/>
          <a:stretch/>
        </p:blipFill>
        <p:spPr>
          <a:xfrm>
            <a:off x="682560" y="298440"/>
            <a:ext cx="7785000" cy="115884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kimono part"/>
          <p:cNvPicPr/>
          <p:nvPr/>
        </p:nvPicPr>
        <p:blipFill>
          <a:blip r:embed="rId2"/>
          <a:stretch/>
        </p:blipFill>
        <p:spPr>
          <a:xfrm>
            <a:off x="142920" y="1714680"/>
            <a:ext cx="88408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Rectangle 2" descr=""/>
          <p:cNvPicPr/>
          <p:nvPr/>
        </p:nvPicPr>
        <p:blipFill>
          <a:blip r:embed="rId1"/>
          <a:stretch/>
        </p:blipFill>
        <p:spPr>
          <a:xfrm>
            <a:off x="682560" y="60336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40291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맑은 고딕"/>
              </a:rPr>
              <a:t>Kimono were traditionally worn by men as daily wear clothing, but today they are usually only worn for festivals, ceremonies, special occasions and as kimono rob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3" name="Picture 5" descr="men's kimono"/>
          <p:cNvPicPr/>
          <p:nvPr/>
        </p:nvPicPr>
        <p:blipFill>
          <a:blip r:embed="rId2"/>
          <a:stretch/>
        </p:blipFill>
        <p:spPr>
          <a:xfrm>
            <a:off x="5643720" y="2000160"/>
            <a:ext cx="20714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The yukata is a japanese summer kimono worn by both men and women. The name yukata comes from the word ”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ゆ</a:t>
            </a:r>
            <a:r>
              <a:rPr b="0" lang="ko-KR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”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(bath) and “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かたび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" (under clothing 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5" name="Rectangle 2" descr=""/>
          <p:cNvPicPr/>
          <p:nvPr/>
        </p:nvPicPr>
        <p:blipFill>
          <a:blip r:embed="rId1"/>
          <a:stretch/>
        </p:blipFill>
        <p:spPr>
          <a:xfrm>
            <a:off x="1133640" y="328680"/>
            <a:ext cx="748656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09120" y="51814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맑은 고딕"/>
              </a:rPr>
              <a:t>there are many matching accessories that can be purchased separately when buying a yukata.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  <a:ea typeface="HGP明朝E"/>
              </a:rPr>
              <a:t>　　　　　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7" name="Picture 6" descr="japanese yukat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380880"/>
            <a:ext cx="3433680" cy="46483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7" descr="yukat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304920"/>
            <a:ext cx="354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2840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HGP明朝E"/>
                <a:hlinkClick r:id="rId1" action="ppaction://hlinksldjump"/>
              </a:rPr>
              <a:t>School Uniform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　　　　　　　　　　（がくらん）、（セーラーふく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HGP明朝E"/>
              </a:rPr>
              <a:t>Ganguro (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がんぐろ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HGP明朝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제목 1" descr=""/>
          <p:cNvPicPr/>
          <p:nvPr/>
        </p:nvPicPr>
        <p:blipFill>
          <a:blip r:embed="rId2"/>
          <a:stretch/>
        </p:blipFill>
        <p:spPr>
          <a:xfrm>
            <a:off x="1133640" y="353880"/>
            <a:ext cx="74865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685800" y="2500200"/>
            <a:ext cx="77724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The Japanese junior and senior high school uniform traditionally consists of a military style uniform (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がくらん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) for boys and a sailor dress (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セーラーふ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) for gir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2" name="제목 1" descr=""/>
          <p:cNvPicPr/>
          <p:nvPr/>
        </p:nvPicPr>
        <p:blipFill>
          <a:blip r:embed="rId1"/>
          <a:stretch/>
        </p:blipFill>
        <p:spPr>
          <a:xfrm>
            <a:off x="1133640" y="353880"/>
            <a:ext cx="74865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7:54:08Z</dcterms:created>
  <dc:creator>SD#34</dc:creator>
  <dc:description/>
  <dc:language>en-US</dc:language>
  <cp:lastModifiedBy>park</cp:lastModifiedBy>
  <dcterms:modified xsi:type="dcterms:W3CDTF">2009-12-11T00:09:54Z</dcterms:modified>
  <cp:revision>19</cp:revision>
  <dc:subject/>
  <dc:title>Japanese Clothing</dc:title>
</cp:coreProperties>
</file>